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118-645F-461D-AA7F-9B5CFE99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C9F-53DF-4074-AFB9-6151A49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32F-E942-412E-9429-A72088F1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190-3247-42BA-A828-C8F7A5AB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BF4-F3BB-42BB-ACC9-0122A57A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968-7AD1-4D79-A0B6-AE16A796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96E-EEF3-4793-8E7B-CD4C0CE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591-80EF-43AD-88C6-0A09C0B0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F7A-1DC1-4F9C-8C78-44DCADD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574-C0CB-409A-843D-2740E498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F69-BA36-457D-9500-6C2609A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679-6186-44F9-A12D-98F660EA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D109-D73B-485C-9564-2BA28795E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bes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8040" y="4566960"/>
            <a:ext cx="6619680" cy="9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Daniel 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ake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6440" y="203040"/>
            <a:ext cx="3036960" cy="3546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0120" y="203040"/>
            <a:ext cx="243828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bleograph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401840"/>
            <a:ext cx="8666280" cy="60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netic and hereditary ... [Best Pract Res Clin Endocrinol Metab. 2005] - PubMed -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CBI." National Center for Biotechnology Information. N.p., n.d. Web. 31 Aug. 2011.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ncbi.nlm.nih.gov/pubmed/16150380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"Obesity - Wikipedia, the free encyclopedia." Wikipedia, the free encyclopedia. N.p., n.d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b. 31 Aug. 2011. 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en.wikipedia.org/wiki/Obes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"Signs and Symptoms of Obesity | Child Obesity, Fast Food Obesity, Child Obesity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uses." Child Obesity, Fast Food Obesity, Child Obesity Causes. N.p., n.d. Web. 31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g. 2011. &lt;</a:t>
            </a: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childobesitycause.info/obesity-symptoms/signs-and-symptoms-of-obesity.ht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amazingposts.com/2008/12/20-interesting-facts-on-obesity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en.wikipedia.org/wiki/Obes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cdc.gov/obesity/data/trends.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is Obesit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eisty is a mdeical condition in which excess body fat has accumulated to the extent that may have an adverse effect on health, leading to a lower life expectan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618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n did obesity first start or detected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esity was first found as a medical disorder in Greece during the middle ag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36760" y="3251160"/>
            <a:ext cx="53355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gns and Sympto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thing feeling light and needing a bigger size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 showing that you gained weight and having extra fat around the wa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49640" y="4572000"/>
            <a:ext cx="3735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ffects- Long term/ short term famil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mily has to decide foods they e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amily gives support by encouragement, family recreation time, et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families discriminate against individua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52680" y="4470480"/>
            <a:ext cx="3494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treatments for obesity diabetes include getting liposuction surgery where doctors get a large hose and basically "suck out" excess fa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can also exercise which would be a less dangerous way of losing weigh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46240" y="3962520"/>
            <a:ext cx="4219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ng obese used to be a symbol of healt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43200" y="3251160"/>
            <a:ext cx="427500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1991 to 2000, the average weight of Americans increased by 8.5 poun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41680" y="3251160"/>
            <a:ext cx="511164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ssissippi is the home of the mud pie. Cajun fried pecans, sweet potato crunch, fried shrimp, and catfish. Mississippi  is also home to the country's fattest people- More then 25% of adult Mississippians are obe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8120" y="4470480"/>
            <a:ext cx="38098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